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25F15-72B7-4942-B18E-E70717EF7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6CDB-6941-4657-8476-DA5B1BEC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F036C-1528-4791-8655-E621E3170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18044-5FA7-4C3B-B22D-FB19B8219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1523-9ABE-4E2E-B2FE-07C8DFD3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5B8F-CC76-4F0A-9911-ACB8F456E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BDE3E-8A37-4052-B8F5-D57EEB7D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11B2-69F2-41A0-A4DE-C759F3B5E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21BD3-3CED-4C33-8434-2D7ED8A6C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7B74-5C16-4B86-A586-E3E9A61FD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38CB-F13B-416F-B355-1ACBA1D9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96DF-2EFE-40FE-B632-EF8F5E435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9223-FA46-4EC8-92B3-96F7C5DFF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7</a:t>
            </a:r>
            <a:br>
              <a:rPr sz="3600"/>
            </a:br>
            <a:r>
              <a:rPr b="0" lang="en-US" sz="3600" spc="-1" strike="noStrike">
                <a:solidFill>
                  <a:srgbClr val="000000"/>
                </a:solidFill>
                <a:latin typeface="Times New Roman"/>
              </a:rPr>
              <a:t>PLANNING&amp; IMPLEMEN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nagers to be effective they must develop strategies to plan, direct and control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effective managers of change, leaders must have more than good diagnostic skil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s must be able to adapt their leadership style to fit the demand.</a:t>
            </a:r>
            <a:endParaRPr b="0" lang="en-US" sz="2000" spc="-1" strike="noStrike">
              <a:solidFill>
                <a:srgbClr val="000000"/>
              </a:solidFill>
              <a:latin typeface="Times New Roman"/>
            </a:endParaRPr>
          </a:p>
        </p:txBody>
      </p:sp>
      <p:sp>
        <p:nvSpPr>
          <p:cNvPr id="4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l Framework For Understanding Change</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gnosis(why change) this is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and most important st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must identify the need to chan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ques involved are: asking the right questions,sensing the environment of the organiz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ing effective patterns of observation and data collec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ways to process and interpret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ezing</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by which the newly acquired behavior comes to be integrated as patterned behavior into the individual’s personality or ongoing significant emotional relationshi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vironment must reinforce the new patter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Field Analysis</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chnique developed by  Kurt Lewin-in any situation there are both driving and restraining forces that influence any change that may occ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ing forces are those forces affecting a situation that are pushing in a particular dir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aining Forces are forces acting to restrain or decrease the driving forces.(apathy, hostility, and poor maintenance are examples of restraining fo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librium is the current level of productivity, can be raised or lowered by changes in the relationship between the driving and the restraining fo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in’s Psychological Safety</a:t>
            </a:r>
            <a:endParaRPr b="0" lang="en-US" sz="2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types of anxiety suggested by Schein a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1…is associated with inability or unwillingness to learn something new because it appears too difficult or disrupt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2…is the induced anxiety of continuing to do something that will lead to fail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1 is caused by the fear of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xiety 2 must be greater than anxiety 1 for change to occu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1. Increase anxiety 2 (fear of not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2. Decrease anxiety 1(fear of chang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87-process of chan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Order And Second-Order Chances</a:t>
            </a:r>
            <a:endParaRPr b="0" lang="en-US" sz="2400" spc="-1" strike="noStrike">
              <a:solidFill>
                <a:srgbClr val="000000"/>
              </a:solidFill>
              <a:latin typeface="Times New Roman"/>
            </a:endParaRPr>
          </a:p>
        </p:txBody>
      </p:sp>
      <p:sp>
        <p:nvSpPr>
          <p:cNvPr id="6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ous-First order change-change that occurs in a stable system that itself remains unchanged</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ntinuous-second order change occurs when fundamental properties or states of the system are changed.</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ation theories maintain that individual firms monitor their environments continuously and make purposeful adjustments to them.</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lism refers to organizational changes in new products, structures, and processes</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olution theories describe the first-order changes that industries experience.</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selection mechanisms view the entry and exit firms in an industry as the primary method of evolution.</a:t>
            </a:r>
            <a:endParaRPr b="0" lang="en-US" sz="1800" spc="-1" strike="noStrike">
              <a:solidFill>
                <a:srgbClr val="000000"/>
              </a:solidFill>
              <a:latin typeface="Times New Roman"/>
            </a:endParaRPr>
          </a:p>
          <a:p>
            <a:pPr marL="301680" indent="-301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morphis-second order change entire firm goes through a transformation</a:t>
            </a:r>
            <a:endParaRPr b="0" lang="en-US" sz="18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olutionary Change occurs when an entire industry is restructured and reconstituted during a brief period of quantum change.</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rganizational changes you initiate as a leader will occur on a level of first-order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of Change</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four levels of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easiest change to man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itudinal Changes-Emotionally charged in a positive or negative 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Behavior-significantly more difficult and time consu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r organizational performance changes may be very time consum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ve Change</a:t>
            </a: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ycle is implemented when new knowledge is made available to the individual o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ve Change</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cycle begins when change is imposed on the total organization by some external force, such as higher management, the community or new la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s when change is forced, the new behavior sometimes creates the kind of knowledge that develops commitment to the change and the change begins to resemble participative change as it reinforces individual and group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Strategy For Change</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best strategy for implementing change. Effective change agents are identified as those who can adapt their strategies to the demands of their unique enviro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000000"/>
                </a:solidFill>
                <a:latin typeface="Times New Roman"/>
              </a:rPr>
              <a:t>Advantages and Disadvantages of Change Cycles</a:t>
            </a:r>
            <a:endParaRPr b="0" lang="en-US" sz="2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gnificant advantage of the participative change cycle is that once the change is accepted, it tends to be long-las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is also an advantage of participative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advantage of participative change is that it tends to be slow and evolutionary-it may take years to implement a significant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disadvantage is that it tends to be volatile.Often resulting in animosity, hostility, and overt and covert behavior to undermine overthr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rocess-Recommended Action</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ess there is  a high probability that a desired consequence will occur and that the consequence will be the same as the conditions that would exist if the problem were not present, then you have not solved the problem or changed the situ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timate solution to a problem (the change effort)may not be possible overnight, and, therefore, interim goals must be set along the path to the final goal (the solving of the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is Cont’d</a:t>
            </a:r>
            <a:endParaRPr b="0" lang="en-US" sz="2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s should attempt to find out(1) what is actually happening now in a particular situation (2)what is likely to be happening(3) what would people like to see happening in the situation (4) what are the blocks, or restraints, stopping movement from the actual to the ideal </a:t>
            </a:r>
            <a:endParaRPr b="0" lang="en-US" sz="2000" spc="-1" strike="noStrike">
              <a:solidFill>
                <a:srgbClr val="000000"/>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steps in the diagnostic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f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f View</a:t>
            </a:r>
            <a:endParaRPr b="0" lang="en-US" sz="2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should know threw whose eyes you will be observing the situ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situation from the point of view of the people who would be affected by the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clear about your frame of reference from the beginning</a:t>
            </a:r>
            <a:endParaRPr b="0" lang="en-US" sz="2000" spc="-1" strike="noStrike">
              <a:solidFill>
                <a:srgbClr val="0000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2400" spc="-1" strike="noStrike">
                <a:solidFill>
                  <a:srgbClr val="000000"/>
                </a:solidFill>
                <a:latin typeface="Times New Roman"/>
              </a:rPr>
              <a:t>Identification of Problem(s)</a:t>
            </a:r>
            <a:br>
              <a:rPr sz="2400"/>
            </a:br>
            <a:endParaRPr b="0" lang="en-US" sz="2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blem in a situation exist when  there is a discrepancy between what is actually happening and what you would like to see happ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fforts involve attempting to reduce discrepancies between the real and the ide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otential areas for discrepancy-end result variables and intervening varia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theory is just organized common sen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79-questions to help you determine what is happening in your situation and is there need for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n Outgrowth of Problem Identificatin</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problem has been identified, the goal of analysis is to determine why the problem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 casual variable-the independent variables that can be altered or changed by the organization and its management such as leadership or management style, organizational structure, and organizational objecti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pg. 380-questions to help determine the discrepa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Getting From Here to There</a:t>
            </a:r>
            <a:endParaRPr b="0" lang="en-US" sz="2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rocess involves- identifying alternative solutions and appropriate implementation strategies, anticipating the probable consequences of each of the alternative strategies, and choosing a specific strategy and implementing it.</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gnostic data is changed into goals and plans,strategies, and procedur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such as : How can change be effected in a work group or organization</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received?</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nalysis is completed, the next step is to determine alternative solutions to the problems and determine appropriate implementation strategi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pproaches are helpful in the implementation process: Lewin’s change process and force field analysis and Schien’s idea of psychological safety.</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win’s Change Process</a:t>
            </a:r>
            <a:endParaRPr b="0" lang="en-US" sz="2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hases of the change process: unfreezing, changing, and refreez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freezing</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is to motivate and make the individual or the group ready to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wing out process in which the forces acting on individuals are rearranged so they see the need for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elements are present when drastic unfreezing is necessar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ividuals being changed are physically removed from the accustomed routines, sources of information,and social relationshi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ocial supports are undermined and destroy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ividuals being changed are demeaned and humiliated so that they will see their old attiudes or behavior as unworthy and motivated to chan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ing down of folkways, customs, and traditions(the old way of doing th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ccurs when one or models are provided in the environ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ization: occurs when individuals are placed in a new behavior patterns not only because they are necessary for survival, but new high-strength needs are induced by coping behavi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ance: another mechanism for inducing change.It occurs when an individual is forced to change by the direct manipulation of rewards and punishment by someone in a power po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17:26:07Z</dcterms:created>
  <dc:creator>WSFCS Standard</dc:creator>
  <dc:description/>
  <dc:language>en-US</dc:language>
  <cp:lastModifiedBy>AEURY</cp:lastModifiedBy>
  <dcterms:modified xsi:type="dcterms:W3CDTF">2006-09-05T17:01:46Z</dcterms:modified>
  <cp:revision>4</cp:revision>
  <dc:subject/>
  <dc:title>CHAPTER 17 PLANNING&amp; IMPLEMENTING</dc:title>
</cp:coreProperties>
</file>